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2DBB-B579-46A0-853F-96D46347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440-54B5-4BF8-8185-027513AA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6D95-FAFC-4CF1-BECB-F1347A82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F3B7-7DDF-4344-BAEE-46900046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BDA5-A74F-4BA9-8196-4140A140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AFB8-51EE-4116-97BA-A8E3C0F7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112-D54F-49D3-8B7A-C00CD408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648-0D54-4AA4-B612-2989D441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934C-7289-412C-97C5-D05CCD38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DF18-EF18-4EA3-9CF2-5A9AADD0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C678-9FF5-412E-B40D-6B90ADA0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0CB-6C57-4936-A1BF-ACE3C5DB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8FDA-F876-402A-95F0-A0622A3F5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Description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ctures that follow show me teaching the AVID Book Club class.  In this class I am trying to instill the love and necessity of rea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the shortage of books I used the camera to project the text on screen for the entire class.  The students took turns reading aloud.  We then used the camera to discuss a worksheet projected on the screen regarding conflict and resolutions within the 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udents seemed to be oblivious to my use of new technology so I asked one of the students to assist 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eacher Use #1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we are so short on books.  I had the bright idea to use the document camera to show the book on the screen for the class to r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715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Teacher Use #2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629400" cy="327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66680" y="4495680"/>
            <a:ext cx="67057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process of trying to put the book and the camera in the right position so that we had a clear picture on the screen.  I was struggling  a little with technology while still trying to teach th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tudent Use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20120" cy="3124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4876920"/>
            <a:ext cx="76964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sked the student to help for this project.  The students did not need a hand on approach but they were interested in seeing how the new technology wor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till Picture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90476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the books we have been using for the book clu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00200" y="3006720"/>
            <a:ext cx="601992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eflection</a:t>
            </a:r>
            <a:br>
              <a:rPr sz="4000"/>
            </a:b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feel challenged but yet charged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s paranoid about leaving the camera sitting out because we have so much traffic within our media center.  I wish I had a way to lock it down like a lapto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cess of setting it up was the most difficult p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zoom in an out was quite helpful with my classroom rea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143000"/>
            <a:ext cx="7848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I look back on the experience of using the camera I noted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Reflections (cont)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anything else the more you use it the more capable you will be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I become more at ease I believe I can be more creative with its uses beyond the basi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9:10:45Z</dcterms:created>
  <dc:creator>sherone.barnes</dc:creator>
  <dc:description/>
  <dc:language>en-US</dc:language>
  <cp:lastModifiedBy>sherone.barnes</cp:lastModifiedBy>
  <dcterms:modified xsi:type="dcterms:W3CDTF">2009-11-04T21:23:13Z</dcterms:modified>
  <cp:revision>7</cp:revision>
  <dc:subject/>
  <dc:title>Teacher Use #1</dc:title>
</cp:coreProperties>
</file>